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6"/>
          </p:nvPr>
        </p:nvSpPr>
        <p:spPr>
          <a:xfrm>
            <a:off x="3814560" y="-360"/>
            <a:ext cx="2919240" cy="49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901440" y="740880"/>
            <a:ext cx="493380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34160" cy="44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7"/>
          </p:nvPr>
        </p:nvSpPr>
        <p:spPr>
          <a:xfrm>
            <a:off x="-3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8"/>
          </p:nvPr>
        </p:nvSpPr>
        <p:spPr>
          <a:xfrm>
            <a:off x="381456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FB8BA4-1721-400A-90FA-51235E34F1F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14920" y="9374040"/>
            <a:ext cx="2919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310B01-5434-450B-B176-9CEF006D672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30920" cy="369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00000" y="4686120"/>
            <a:ext cx="49341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92988-011A-40AC-9428-9E3B02E8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C2E0F-3C3A-4F6F-A61D-3DAF7E77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253E-F385-47C5-ABB4-645E8912D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497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229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6765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497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229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7ED7F-C6F2-4F3B-8709-FFCD4C66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60020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A0B98-462B-4675-B74F-09BD2E19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1497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2920" y="213372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6765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41497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2920" y="4283280"/>
            <a:ext cx="235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B2490-AB4A-407E-A662-743E6A62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62D72-693D-4CE9-B0F3-7BDF8569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39336-27E5-4729-BB3E-A681159D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600200" y="685440"/>
            <a:ext cx="7391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7E8D-2353-4B7F-95EB-C036EFA08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1CE31-8A2A-4ACC-B699-690E146C9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25200" y="428328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7BE70-3AAC-46B3-9883-12856113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5200" y="2133720"/>
            <a:ext cx="35697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76520" y="4283280"/>
            <a:ext cx="73152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F1BD-89D2-459C-B1BF-AC367CB4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" name="Object 12" descr=""/>
          <p:cNvPicPr/>
          <p:nvPr/>
        </p:nvPicPr>
        <p:blipFill>
          <a:blip r:embed="rId2"/>
          <a:stretch/>
        </p:blipFill>
        <p:spPr>
          <a:xfrm>
            <a:off x="0" y="0"/>
            <a:ext cx="15462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Line 13"/>
          <p:cNvSpPr/>
          <p:nvPr/>
        </p:nvSpPr>
        <p:spPr>
          <a:xfrm>
            <a:off x="396720" y="408924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" name="Object 15" descr=""/>
          <p:cNvPicPr/>
          <p:nvPr/>
        </p:nvPicPr>
        <p:blipFill>
          <a:blip r:embed="rId3"/>
          <a:stretch/>
        </p:blipFill>
        <p:spPr>
          <a:xfrm>
            <a:off x="361800" y="0"/>
            <a:ext cx="8782200" cy="609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16"/>
          <p:cNvSpPr/>
          <p:nvPr/>
        </p:nvSpPr>
        <p:spPr>
          <a:xfrm>
            <a:off x="1905120" y="146160"/>
            <a:ext cx="640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Century Gothic"/>
              </a:rPr>
              <a:t>DIRECTION DE L’EAU ET DE LA BIODIVERSITE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6" name="Object 17" descr=""/>
          <p:cNvPicPr/>
          <p:nvPr/>
        </p:nvPicPr>
        <p:blipFill>
          <a:blip r:embed="rId4"/>
          <a:stretch/>
        </p:blipFill>
        <p:spPr>
          <a:xfrm>
            <a:off x="0" y="1133640"/>
            <a:ext cx="1498680" cy="1904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-360" y="4266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B95CD-BE39-4E87-9B27-140790B85F61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-360" y="3276360"/>
            <a:ext cx="1523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-360" y="38095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28" descr="C:\Documents and Settings\lucejo\Mes documents\Mes images\BlocMarqDevDurable-500.png"/>
          <p:cNvPicPr/>
          <p:nvPr/>
        </p:nvPicPr>
        <p:blipFill>
          <a:blip r:embed="rId5"/>
          <a:stretch/>
        </p:blipFill>
        <p:spPr>
          <a:xfrm>
            <a:off x="0" y="5029200"/>
            <a:ext cx="1536840" cy="182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Object 1036" descr=""/>
          <p:cNvPicPr/>
          <p:nvPr/>
        </p:nvPicPr>
        <p:blipFill>
          <a:blip r:embed="rId2"/>
          <a:stretch/>
        </p:blipFill>
        <p:spPr>
          <a:xfrm>
            <a:off x="0" y="0"/>
            <a:ext cx="15462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Line 1037"/>
          <p:cNvSpPr/>
          <p:nvPr/>
        </p:nvSpPr>
        <p:spPr>
          <a:xfrm>
            <a:off x="396720" y="4089240"/>
            <a:ext cx="719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49" name="Object 1043" descr=""/>
          <p:cNvPicPr/>
          <p:nvPr/>
        </p:nvPicPr>
        <p:blipFill>
          <a:blip r:embed="rId3"/>
          <a:stretch/>
        </p:blipFill>
        <p:spPr>
          <a:xfrm>
            <a:off x="361800" y="0"/>
            <a:ext cx="8782200" cy="609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044"/>
          <p:cNvSpPr/>
          <p:nvPr/>
        </p:nvSpPr>
        <p:spPr>
          <a:xfrm>
            <a:off x="1447920" y="155520"/>
            <a:ext cx="706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ffffff"/>
                </a:solidFill>
                <a:latin typeface="Century Gothic"/>
              </a:rPr>
              <a:t>DIRECTION DE L’EAU ET DE LA BIODIVERSITE</a:t>
            </a:r>
            <a:endParaRPr b="0" lang="en-US" sz="11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51" name="Picture 1093" descr="C:\Documents and Settings\lucejo\Mes documents\Mes images\BlocMarqDevDurable-500.png"/>
          <p:cNvPicPr/>
          <p:nvPr/>
        </p:nvPicPr>
        <p:blipFill>
          <a:blip r:embed="rId4"/>
          <a:stretch/>
        </p:blipFill>
        <p:spPr>
          <a:xfrm>
            <a:off x="0" y="4876920"/>
            <a:ext cx="1557360" cy="19810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-360" y="3809520"/>
            <a:ext cx="15238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-360" y="3276360"/>
            <a:ext cx="1523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54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3505320" y="15228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7147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2" name="Text Box 14"/>
          <p:cNvSpPr/>
          <p:nvPr/>
        </p:nvSpPr>
        <p:spPr>
          <a:xfrm>
            <a:off x="2209680" y="47926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pic>
        <p:nvPicPr>
          <p:cNvPr id="103" name="Picture 16" descr="C:\Documents and Settings\lucejo\Mes documents\Mes images\satellite_view.jpg"/>
          <p:cNvPicPr/>
          <p:nvPr/>
        </p:nvPicPr>
        <p:blipFill>
          <a:blip r:embed="rId1"/>
          <a:stretch/>
        </p:blipFill>
        <p:spPr>
          <a:xfrm>
            <a:off x="1523880" y="609480"/>
            <a:ext cx="7620120" cy="624852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8"/>
          <p:cNvSpPr/>
          <p:nvPr/>
        </p:nvSpPr>
        <p:spPr>
          <a:xfrm>
            <a:off x="1905120" y="29718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ffffff"/>
                </a:solidFill>
                <a:latin typeface="Arial"/>
              </a:rPr>
              <a:t>L’Union pour la Méditerranée</a:t>
            </a:r>
            <a:endParaRPr b="0" lang="en-US" sz="3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523880" y="609480"/>
            <a:ext cx="3276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Philippe GUETTIER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imes New Roman"/>
              </a:rPr>
              <a:t>Mission Présidence française de l’Union Européenne</a:t>
            </a:r>
            <a:endParaRPr b="0" lang="en-US" sz="1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00C2-A8B5-41DF-875D-74458BAC744F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8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Calendrier 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520" y="1599840"/>
            <a:ext cx="7315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Stratégie : 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décision sur ses orientations le 22 décembre 2008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décision sur son contenu définitif mi 2010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approbation par les Chefs d’Etat et de Gouvernement fin 2010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Projets : 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transmission des premiers projets « eau » au Secrétariat de l’UpM en mai 2009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1" name="Picture 4" descr="C:\Documents and Settings\lucejo\Mes documents\Mes images\2008-11 (nov.)\Numériser.jpg"/>
          <p:cNvPicPr/>
          <p:nvPr/>
        </p:nvPicPr>
        <p:blipFill>
          <a:blip r:embed="rId1"/>
          <a:stretch/>
        </p:blipFill>
        <p:spPr>
          <a:xfrm>
            <a:off x="2286000" y="4038480"/>
            <a:ext cx="60199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CE7D-C4C2-44DF-8510-B44EF60BA789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3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Orientations de la stratégie 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Ambition politique de haut niveau permettant de s’attaquer à des problèmes dépassant les moyens d’action d’un seul pays ou d’une seule organisation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Deux grandes finalités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- préservation de la qualité des eaux (dépollution de la mer Méditerranée)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- diversification de l’approvisionnement en eau et utilisation rationnelle et durable de l’eau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Obtenir un accord sur des concepts couvrant principalement des modes de gouvernance efficac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Renforcer la coordination des initiatives existantes sur les questions d’information et d’expertis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4F34-4D6A-4215-825D-25E4AE6AF66A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7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Thématique des projets concrets 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Adaptation au changement climatiqu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Équilibre entre mobilisation de nouvelles ressources et gestion des demand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Réhabilitation et valorisation des milieux naturel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Dépollution de la mer Méditerrané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Technologies et usages efficient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ce réservé du numéro de diapositive 1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CB12-383E-4047-A890-D95E6F72679B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1" name="Espace réservé de la date 3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1523880" y="34290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Merci pour votre attention</a:t>
            </a:r>
            <a:endParaRPr b="0" lang="en-US" sz="28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7D606-DC3F-480B-B9DF-219C410F391C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7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Times New Roman"/>
              </a:rPr>
              <a:t>Un nouvel élan majeur en faveur de la région méditerranéenne</a:t>
            </a:r>
            <a:br>
              <a:rPr sz="1800"/>
            </a:b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1600200" y="2362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584360" y="1870200"/>
            <a:ext cx="73310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buClr>
                <a:srgbClr val="0000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les écarts de développement se creusent entre les deux rives de la Méditerranée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risques d’instabilité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nouvelle dynamique impulsée par les Chefs d’Etat et de Gouvernement le 13 juillet 2008 lors du Sommet de Paris : l’Union pour la Méditerranée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appui sur les acquis du Processus de Barcelone (1995)</a:t>
            </a: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040E-BDAB-4E71-B54F-336C81ED31FF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2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4 principes fondateurs 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mobilisation politique au plus haut niveau : Sommets des Chefs d’Etat de Gouvernement tous les 2 an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Réalisation de projets concrets régionaux et sous régionaux et à géométrie variable utiles pour les citoyens de la région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Gouvernance équilibrée Nord-Sud, Secrétariat paritaire pour l’identification, la promotion des projets et la recherche de financement et de partenair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Participation de la société civile, des autorités locales et régionales et du secteur privé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7829-EDC5-4FBC-9D7D-4A7F6A69E351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6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Priorités thématiques 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environnement et énergie : dépollution de la Méditerranée, gestion durable et efficiente des ressources en eau, plan solaire méditerranée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risques naturels et transports : protection civile, autoroutes de la mer et terrestr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développement économique et social : développement des petites et moyennes entreprises, enseignement supérieur et recherch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EBE3-136A-4F0B-9C24-52B09E061B53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0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La région méditerranéenne risque de connaître une crise de l’eau dans moins d’une génération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ressource rare, fragile et inégalement reparti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Augmentation des demandes : 80 % des usages sont agricoles au Sud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Atteinte proche du niveau limite des ressources disponibl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8785-99F2-4EA6-AB3A-72DFA0D1365F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4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En 2000 : 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108 millions d’habitants pauvres en eau *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45 millions en situation de pénurie *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En 2025 :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63 millions en situation de pénurie *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lvl="4" marL="1954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Un pays sur 3 prélèvera plus de 50 % du volume annuel de ses ressources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Utilisation de ressources non renouvelabl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Pays les plus menacés : Libye,  Territoires Palestiniens, Jordanie, Israël, Malte *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99"/>
                </a:solidFill>
                <a:latin typeface="Century Gothic"/>
              </a:rPr>
              <a:t>* Selon Plan Bleu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258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08A54-6F0C-4A27-BD7B-DF63282603BB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7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Destruction d’aquifères côtiers par intrusion     salin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Épuisement des ressources fossil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Envasement de nombreux barrag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Dégradation et pollutions d’origine humaine limitant les possibilités d’usag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Perte de la biodiversité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Régression des zones humid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Conséquences importantes du changement climatiqu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D223-FD2A-4242-9C60-EFF1641D421D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0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Sur le plan quantitatif, un gisement important ne nécessitant pas de nouvelles pressions sur la ressource :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220932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la  limitation des pertes dues aux différents usages aux fuites et aux transfert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Les pertes représentent plus du double de l’accroissement des besoins d’ici 2015 *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Ce gisement permettrait d’éviter la construction de 100 barrages d’ici cette date *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Nécessité d’un changement de culture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99"/>
                </a:solidFill>
                <a:latin typeface="Century Gothic"/>
              </a:rPr>
              <a:t>* Selon Plan Bleu</a:t>
            </a: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Espace réservé du numéro de diapositive 3"/>
          <p:cNvSpPr/>
          <p:nvPr/>
        </p:nvSpPr>
        <p:spPr>
          <a:xfrm>
            <a:off x="0" y="4267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46D7-A3AA-4259-AB29-F18629573447}" type="slidenum"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4" name="Espace réservé de la date 5"/>
          <p:cNvSpPr/>
          <p:nvPr/>
        </p:nvSpPr>
        <p:spPr>
          <a:xfrm>
            <a:off x="0" y="3809880"/>
            <a:ext cx="1523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fr-FR" sz="1200" spc="-1" strike="noStrike">
                <a:solidFill>
                  <a:srgbClr val="ffffff"/>
                </a:solidFill>
                <a:latin typeface="Century Gothic"/>
              </a:rPr>
              <a:t>Novembre 2008</a:t>
            </a:r>
            <a:endParaRPr b="0" lang="en-US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99"/>
                </a:solidFill>
                <a:latin typeface="Century Gothic"/>
              </a:rPr>
              <a:t>Nécessité de renforcer le nombre et la qualité des projets concrets en s’appuyant sur une stratégie régionale partagé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676520" y="2742840"/>
            <a:ext cx="731520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Mandat donné à la conférence ministérielle sur l’eau associant tous les pays membres de l’UpM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- bâtir une stratégie à long terme pour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  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l’eau en Méditerrané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- identifier des projets concrets cohérents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 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avec la stratégi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Century Gothic"/>
              </a:rPr>
              <a:t>Participation de la société civile, des autorités locales et régionales, du secteur privé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5:38:10Z</dcterms:created>
  <dc:creator>utilisateur</dc:creator>
  <dc:description/>
  <dc:language>en-US</dc:language>
  <cp:lastModifiedBy>Christophe</cp:lastModifiedBy>
  <dcterms:modified xsi:type="dcterms:W3CDTF">2009-01-26T09:32:59Z</dcterms:modified>
  <cp:revision>734</cp:revision>
  <dc:subject/>
  <dc:title>Présentation PowerPoint</dc:title>
</cp:coreProperties>
</file>